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411-1084-476B-9312-F6B429B2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2BD-31E9-4296-A174-DB0252E9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CEA-AEA6-4B32-B7F3-67AA6B15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757-B74D-40F9-9E0D-2695FB73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84DA-687E-4242-88C6-0969F902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A1DB-3C8A-4ABE-A03D-FCD1F1B5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9576-E6BC-4582-98D2-529176F8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6858-E27C-499C-A4AC-40793FDE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A7E4-178E-4F01-BC44-0B920D7C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3AAD-52BD-4C04-B6C1-6A020C3F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EE3C-624F-4FC2-A87B-FA1BD5C3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BF6-92CB-41C1-B3CB-8682A268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B54A-D390-4B63-9D30-96DE5070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256C-BF01-4D28-BE3B-0FDB9F8D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7091-5117-43FA-9B45-9FF9B40A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2185-74B6-4D08-9D16-CE6B86D1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10E5-A3CB-4918-A4C1-1E3F02E3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9CF-0BD0-487B-92E6-C603B2D4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B5A-D949-4287-B6C9-4E2B4811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36D-3849-48D8-AB2F-02CB702E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D98-FFB8-4FF5-8F59-03F1CBF3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93C-4BD7-413F-B6B0-45863C9B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0F3-37BB-4F3C-8FBE-524EB62C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4D6-30F8-4D27-A444-97D30BC6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C80C-5A20-42C0-96B0-58AB126F42E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B55E-80EF-4BEB-A72B-939A0627917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President’s Major Ro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y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ppoints party members to government job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upports party members who are up for election or re-elec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ead of St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President serves as the symbol and primary representative of the United States governmen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President is the ceremonial head of the United States of Americ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President is responsible for carrying out the duties of the executive branch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o accomplish this enormous task, the President has to assume many role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ief Executi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arries out the nation’s law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ssues executive orders (a rule or command that has the force of law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ppoints cabinet members and other official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Heads the federal bureaucrac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Bureauc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the network of agencies and individuals that work to carry out the numerous duties of the executive branc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proximately 3 million people make-up the federal bureaucrac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ief Diplo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Deals directly with foreign nation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ppoints ambassador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Makes treati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ssues executive agreements (an agreement between the President and a leader of another country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nder in Chief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President is the leader of the armed forc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*Remember that only Congress can officially declare war, however, only the President can order troops into battl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islative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Proposes legisla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fluences legisla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pproves or vetoes legislation that has been passed by Congres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conomic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orks to help the nation’s economy prosper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Deals with the economic problems of rising prices, unemployment, and high tax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Proposes the federal budge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ppoints judges to the Supreme Court and other federal court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May grant pardons, reprieves, and amnest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6:20:42Z</dcterms:created>
  <dc:creator>Sys Admin</dc:creator>
  <dc:description/>
  <dc:language>en-US</dc:language>
  <cp:lastModifiedBy>Sys Admin</cp:lastModifiedBy>
  <dcterms:modified xsi:type="dcterms:W3CDTF">2009-11-09T20:16:28Z</dcterms:modified>
  <cp:revision>12</cp:revision>
  <dc:subject/>
  <dc:title>The President’s Major Roles</dc:title>
</cp:coreProperties>
</file>